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C811-C448-4736-A8D7-14DE01B96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EE05-66EB-4DEA-9A79-5C5F26558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CFF5-2B5C-40C8-BA2B-E65D8E35B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6D3C-3CC3-4B59-A070-027E5F515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F653-AB46-4BA2-8EE8-595579EF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1677-EE11-4199-A04B-EAC6E4665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98FE-5773-4A65-AEA1-4B1D8D249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7F8A-BC2C-45B5-BC50-44AE46268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CC20-35AA-47FC-8AD9-67E6FC820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D4CD-8374-4558-9D57-CD7B293F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A8C2-0951-45B1-A140-F5490665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6404-C0FF-4415-BCA5-892BE6A1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DA49D-D73A-4B79-963E-F4B8C63517F7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2420640"/>
            <a:ext cx="6400800" cy="2305080"/>
          </a:xfrm>
          <a:prstGeom prst="rect">
            <a:avLst/>
          </a:prstGeom>
          <a:solidFill>
            <a:srgbClr val="ffe98d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تاس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علومات المحاسبية ونظريات الاستثمار الحديث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08AC-6CA6-4930-B086-23A46F717314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85800" y="1023480"/>
            <a:ext cx="7772760" cy="9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2b2b2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ظرية محفظة الاوراق المالية والمعلومات المحاسب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4360" y="2813040"/>
            <a:ext cx="7839000" cy="270360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50000">
                <a:srgbClr val="ccccff"/>
              </a:gs>
              <a:gs pos="100000">
                <a:srgbClr val="e6dcac"/>
              </a:gs>
            </a:gsLst>
            <a:lin ang="135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قوم على أساس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نظرية المنفعة في اختيار البدائل الممكن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ظرية الاحتمالات لتقدير العائد المتوقع من كل قرار استثمار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3D74-E484-443A-9954-207F1F984742}" type="slidenum">
              <a:t>10</a:t>
            </a:fld>
          </a:p>
        </p:txBody>
      </p:sp>
    </p:spTree>
  </p:cSld>
  <p:transition>
    <p:random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4360" y="1700280"/>
            <a:ext cx="7772760" cy="67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ed4c0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فروض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ن</a:t>
            </a:r>
            <a:r>
              <a:rPr b="0" lang="ar-SA" sz="28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ظرية محفظة الاوراق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3298680"/>
            <a:ext cx="7848720" cy="25783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e6dcac"/>
              </a:gs>
            </a:gsLst>
            <a:lin ang="135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أخذ العائد المتوقع والخاطرة في الاعتبا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ختيار المحفظة الكف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وزيع العائد عند مستوى م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ين من المخاط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مخاطرة تتناسب طرديا مع العائ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8A43-28E6-467D-B07A-CE0A38C43224}" type="slidenum">
              <a:t>11</a:t>
            </a:fld>
          </a:p>
        </p:txBody>
      </p:sp>
    </p:spTree>
  </p:cSld>
  <p:transition>
    <p:random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685800" y="1144440"/>
            <a:ext cx="7772760" cy="707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نواع المخاط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78400" y="2472480"/>
            <a:ext cx="2849400" cy="96300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غير منتظم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43840" y="2471760"/>
            <a:ext cx="2631600" cy="94716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منتظمة (دورية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560" y="3959280"/>
            <a:ext cx="2668680" cy="220644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هي التي تؤثر في جميع الاوراق المالية ولا يمكن تجنبها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8200" y="3981600"/>
            <a:ext cx="2971800" cy="219708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هي التي تؤثر على العائد من نوع معين من الاستثمار ويمكن تجنبها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52720" y="352908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43640" y="3500280"/>
            <a:ext cx="50328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6345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D68A-DDD9-4BB0-B7BF-960EA7361DD8}" type="slidenum">
              <a:t>12</a:t>
            </a:fld>
          </a:p>
        </p:txBody>
      </p:sp>
    </p:spTree>
  </p:cSld>
  <p:transition>
    <p:random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914400"/>
            <a:ext cx="7804440" cy="90828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50000">
                <a:srgbClr val="ffffff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راحل اتخاذ القرا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2706840"/>
            <a:ext cx="7775280" cy="3243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e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تحديد المشك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تحديد البدائل الممكن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جمع المعلوم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تقييم البدائ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ختيار البديل المناس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3EE1-C738-41E0-9D5E-387704CA8B87}" type="slidenum">
              <a:t>2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780840"/>
            <a:ext cx="7772760" cy="907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حليل الاساس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2492280"/>
            <a:ext cx="7848360" cy="142740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50000">
                <a:srgbClr val="ccccff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اهتمام بالارباح المتوقعة ونصيب السهم منها والمخاط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4363920"/>
            <a:ext cx="7775280" cy="172908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50000">
                <a:srgbClr val="ccccff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راحل التحليل الأساسي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دراسة المنشأ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دراسة الصناعة التي ينتمي إليها المشرو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دراسة النشاط الاقتصادي الكل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40360" y="11592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CB38-9FFA-48C0-9432-7A91C4BD6442}" type="slidenum">
              <a:t>3</a:t>
            </a:fld>
          </a:p>
        </p:txBody>
      </p:sp>
    </p:spTree>
  </p:cSld>
  <p:transition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1419120"/>
            <a:ext cx="7772760" cy="908280"/>
          </a:xfrm>
          <a:prstGeom prst="rect">
            <a:avLst/>
          </a:prstGeom>
          <a:solidFill>
            <a:srgbClr val="cccc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حليل الفن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4360" y="3360600"/>
            <a:ext cx="7704000" cy="19400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e98d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يهتم بدراسة السوق التي يتم الاستثمار فيها مثل سوق الاوراق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62EC-3A4D-448A-AF0D-E2EE65E2F473}" type="slidenum">
              <a:t>4</a:t>
            </a:fld>
          </a:p>
        </p:txBody>
      </p:sp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071720"/>
            <a:ext cx="7772400" cy="844560"/>
          </a:xfrm>
          <a:prstGeom prst="rect">
            <a:avLst/>
          </a:prstGeom>
          <a:solidFill>
            <a:srgbClr val="ccccff"/>
          </a:soli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دور المعلومات المحاسبية في العم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2421000"/>
            <a:ext cx="3581640" cy="8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حليل الاساس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4021200"/>
            <a:ext cx="358128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حليل الفن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5468760"/>
            <a:ext cx="426708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ختيار الاستثمار الافض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24360" y="2793960"/>
            <a:ext cx="762120" cy="1066680"/>
          </a:xfrm>
          <a:custGeom>
            <a:avLst/>
            <a:gdLst>
              <a:gd name="textAreaLeft" fmla="*/ 101880 w 762120"/>
              <a:gd name="textAreaRight" fmla="*/ 660240 w 76212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e98d"/>
          </a:soli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25520" y="4307040"/>
            <a:ext cx="762120" cy="1066680"/>
          </a:xfrm>
          <a:custGeom>
            <a:avLst/>
            <a:gdLst>
              <a:gd name="textAreaLeft" fmla="*/ 101880 w 762120"/>
              <a:gd name="textAreaRight" fmla="*/ 660240 w 76212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e98d"/>
          </a:soli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08E3-5298-4772-ACCF-888720313769}" type="slidenum">
              <a:t>5</a:t>
            </a:fld>
          </a:p>
        </p:txBody>
      </p:sp>
    </p:spTree>
  </p:cSld>
  <p:transition>
    <p:random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755640" y="1268280"/>
            <a:ext cx="7772760" cy="960120"/>
          </a:xfrm>
          <a:prstGeom prst="rect">
            <a:avLst/>
          </a:prstGeom>
          <a:solidFill>
            <a:srgbClr val="ccccff"/>
          </a:soli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ظرية السوق الكفء والمعلومات المحاسب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55640" y="3139920"/>
            <a:ext cx="7778880" cy="29530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e6dcac"/>
              </a:gs>
              <a:gs pos="100000">
                <a:srgbClr val="ccecff"/>
              </a:gs>
            </a:gsLst>
            <a:lin ang="135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هتم ببيان أثر المعلومات على أسعار الاوراق المالية في السوق ودراسة سلوك المستثمرين تجاه كل معلومة تنش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فالسوق الكفء هو الذي يتكيف أولا بأول لكل معلومة يتم نشرها وبالتالي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عكس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ثرها ع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ى أسعار الاوراق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70D9-D1CB-4D78-BEDC-42317C6D0B1A}" type="slidenum">
              <a:t>6</a:t>
            </a:fld>
          </a:p>
        </p:txBody>
      </p:sp>
    </p:spTree>
  </p:cSld>
  <p:transition>
    <p:random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85800" y="952200"/>
            <a:ext cx="7772760" cy="691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قوم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56640" y="2375640"/>
            <a:ext cx="2447280" cy="520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علوم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187680" y="2375640"/>
            <a:ext cx="2316960" cy="520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سو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27640" y="3284640"/>
            <a:ext cx="2314800" cy="28083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ن حيث الآلية التي يعمل بها السو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3305160"/>
            <a:ext cx="2438280" cy="28605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درجة الفهم  الاستفادة من المعلومات المنشور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39720" y="3284640"/>
            <a:ext cx="2448000" cy="29368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جر الزاوية في الحكم على كفاءة السو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وعيتها(تاريخية، حالية،داخلية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  مالية ..الخ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وافره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صادرها وتكلفتها ودقته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09920" y="2347920"/>
            <a:ext cx="245736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ستثمر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9FEE-5B45-41C5-92F3-6FCC5B13B18C}" type="slidenum">
              <a:t>7</a:t>
            </a:fld>
          </a:p>
        </p:txBody>
      </p:sp>
    </p:spTree>
  </p:cSld>
  <p:transition>
    <p:random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427640" y="2349360"/>
            <a:ext cx="288720" cy="8636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490760"/>
            <a:ext cx="7772760" cy="62028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e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علوم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078200" y="2765160"/>
            <a:ext cx="2165040" cy="62532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e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غير 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814720" y="2770200"/>
            <a:ext cx="2166840" cy="62064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e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853240" y="4032360"/>
            <a:ext cx="2190600" cy="191772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e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اريخ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ستقب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57320" y="4011480"/>
            <a:ext cx="2087640" cy="190980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e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اريخ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ستقب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5400000">
            <a:off x="4388400" y="1818360"/>
            <a:ext cx="279720" cy="25192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93960" y="3471840"/>
            <a:ext cx="431640" cy="504720"/>
          </a:xfrm>
          <a:prstGeom prst="downArrow">
            <a:avLst>
              <a:gd name="adj1" fmla="val 50000"/>
              <a:gd name="adj2" fmla="val 29233"/>
            </a:avLst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734160" y="3486240"/>
            <a:ext cx="431640" cy="504720"/>
          </a:xfrm>
          <a:prstGeom prst="downArrow">
            <a:avLst>
              <a:gd name="adj1" fmla="val 50000"/>
              <a:gd name="adj2" fmla="val 29233"/>
            </a:avLst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2275-9E87-4043-912F-E7DD155BDFEA}" type="slidenum">
              <a:t>8</a:t>
            </a:fld>
          </a:p>
        </p:txBody>
      </p:sp>
    </p:spTree>
  </p:cSld>
  <p:transition>
    <p:random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60840" y="2508120"/>
            <a:ext cx="0" cy="259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35280" y="2508120"/>
            <a:ext cx="0" cy="259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508120"/>
            <a:ext cx="0" cy="259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620640"/>
            <a:ext cx="7772760" cy="691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ستويات السوق الكف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14600" y="1945080"/>
            <a:ext cx="2228400" cy="53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 algn="ct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الادنى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188760" y="1876680"/>
            <a:ext cx="2237040" cy="598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الاعلى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227640" y="2911320"/>
            <a:ext cx="2232000" cy="1828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أسعار الاوراق المالية تعكس جميع المعلومات المالية وغير المالية المتاح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21080" y="2924280"/>
            <a:ext cx="2303280" cy="1815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أسعار الاوراق المالية تعكس المعلومات التاريخية والح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2868480"/>
            <a:ext cx="2232000" cy="187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أسعار الاوراق المالية تعكس المعلومات التاريخية فق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21080" y="1916280"/>
            <a:ext cx="2303280" cy="591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المتوسط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156360" y="5029200"/>
            <a:ext cx="2376360" cy="107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50000">
                <a:srgbClr val="ded4c0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صعب التحقق لصعوبة التماث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48000" y="5027760"/>
            <a:ext cx="244800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50000">
                <a:srgbClr val="ded4c0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غير مقبول لصعوبة تحديد الاسعار بناء على معلومات تاريخ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5027760"/>
            <a:ext cx="237636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50000">
                <a:srgbClr val="ded4c0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مقبول بشكل واس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40360" y="11592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59A2-CA95-4771-BF37-BB5F73E56389}" type="slidenum">
              <a:t>9</a:t>
            </a:fld>
          </a:p>
        </p:txBody>
      </p:sp>
    </p:spTree>
  </p:cSld>
  <p:transition>
    <p:random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****</cp:lastModifiedBy>
  <dcterms:modified xsi:type="dcterms:W3CDTF">2003-12-08T02:45:21Z</dcterms:modified>
  <cp:revision>37</cp:revision>
  <dc:subject/>
  <dc:title>التحليل المالي والائتماني</dc:title>
</cp:coreProperties>
</file>